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2BE-8502-4B3B-ADC9-3EC43A43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52E-D3D6-46E9-9772-2BA1EBF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096-C472-4920-9189-E31A302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1EA-1FCF-41BD-B78C-CC37158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442-93A9-45DA-B6BF-2739D76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AE6-37FE-4250-83FA-EBE03DB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AB6-B86F-4E3E-8E59-64E4701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083-0573-486A-8FA2-AEFECD0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DE1-1E3A-4877-B35E-2E71BDA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7D4-F572-4353-99E2-0EB57ED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ED2-6505-4E40-94E8-85FF5F5F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869-74E7-4242-801D-72076196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D75-BAAB-45CE-B8D8-C4BC2BCB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9BAD-A3BC-4C85-9FDF-8784B27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E9D-0A49-443A-9FED-22F1786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F38-2D4A-4C82-AF6D-037524C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DAAB-780E-45E2-A71F-56F8175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012E-3F36-4397-923D-7BA7B90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D252-D813-4867-8AE7-7DF1D2F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8DF-A196-4920-B3FA-581D6EE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B39E-B89C-4DCE-A1E1-3791257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5A4C-F6B2-4802-AF21-CCBEEB5F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F32A-1C33-49F4-B2FC-E439AC24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75A0-14F6-4389-9C86-4470A42D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C46-1C7D-4B1F-B27B-AB2C45A8A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16CE-244C-4370-B8EB-FEB445E4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msnbcmedia.msn.com/i/msnbc/Components/Interactives/Health/WomensHealth/zFlashAssets/menstrual_cycle_dw2%5B1%5D.swf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ytimes.com/imagepages/2007/08/01/health/adam/17136Tuballigation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lencoe.com/sec/science/cgi-bin/splitwindow.cgi?top=http://www.glencoe.com/sec/science/top2.html&amp;link=http://www.visembryo.com/baby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quiz/887927.html?AP_rand=1728310696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outube.com/watch?v=6XyJlWQnMTU&amp;feature=related" TargetMode="External"/><Relationship Id="rId3" Type="http://schemas.openxmlformats.org/officeDocument/2006/relationships/hyperlink" Target="http://youtube.com/watch?v=6XyJlWQnMTU&amp;feature=related" TargetMode="External"/><Relationship Id="rId4" Type="http://schemas.openxmlformats.org/officeDocument/2006/relationships/hyperlink" Target="http://youtube.com/watch?v=6XyJlWQnMTU&amp;feature=related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he Reproductive System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4360" y="5589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y 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e Male Reproductive System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1722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396252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ternal Male Orga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r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icroscopic cells produced by the male’s testicles which can fertilize the female’s ov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man’s gland that helps make s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hind the base of the penis which secretes fluid to make semen and neutralize acid during sexual exci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aculatory duc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short straight tube that passes into the prostate gland and opens into the ureth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963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ethr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tube that connects with the vas deferens to carry sperm cells out of the body.  In males, both urine and sperm leave the body through the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didym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iled tube that stores sperm produced by the testes (one part attached to testes and other attaches to the vas defe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 Defer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xtends up into the abdominal cavity, where it joins the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nal Vesic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wo pouch-like structures which serve to store mature sperm until eja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eminal Fluid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epididymis to the urethra, glands add secretions to the sper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l Flu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ricates sperms passag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rotection from the acidic environment of the female reproduc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fructose; (sperm’s energy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n = Seminal Fluid +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43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ross section of Peni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76520" y="1790640"/>
            <a:ext cx="60195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ternal Male Reproductiv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osteron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le reproductive hormone made by the testicles which causes the changes of pub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organ of transfer of sperm to fem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otu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ouch-like sac holding both testicles in a separate compartment that hang underneath the penis; Temperature inside scrotum is 1.5 C lower than w/in the body cavity for sperm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les – Testes Gl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wo glands in the male, located in the scrotum, which produce male hormones (testosterone); produce the male gametes (spe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wimming for Your Life – Haploid cells produced by meiosis (23 chromosomes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2388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rm is a tiny package with a big responsibility – to fertilize the egg and create a human life.  So that tiny package is loaded with “gear” for its important jour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a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sperm production by a healthy m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to 5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average eja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million sperm; 25 million moving; 25 million de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ation: 7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swimming speed of a spe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inches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al time in a woman:   2 to 7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related concer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m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rocess that surgically removes the flap of skin that covers the glans of the p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acu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en semen carrying sperm spurts out of p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thick, sticky fluid which contains sperm ejaculated by the male from the penis during orgasm (clima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cturnal Emi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normal, involuntary ejaculation of semen and sperm while a male is a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t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failure to get or maintain an e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ectom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urgical procedure for sterilization of the 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1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mportance of Reproduc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of a spec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e Tim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ections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1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e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3-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m produc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in adult amou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(pub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te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sex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s for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out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ood health is present, there is the sex urge and ability to fath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 Tim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9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e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1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strual cyc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20-30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sex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45-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cycle stops, but sex u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4419720" cy="4033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emale Reproductive Orga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90720" y="1295280"/>
            <a:ext cx="7162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va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an’s external genit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dendum or Pub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area in the body where the sex organs are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s Pub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mound of fatty tissue which covers the pubic b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ia Major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large lips)  two folds of skin running from the mons pubis to below the vaginal o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ia Minor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smaller folds of tissue which lie just within the labia maj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tor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small, pea-shaped bump at the front of the labia that contains erectile tissue (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to male pen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ethr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low the clitoris, the opening to the blad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6095880" cy="5402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7643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nal Orga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m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narrow fold of tissue encircling the entrance to the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assageway between the uterus and the outside of a woman’s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pening from the uterus to the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lace where the baby grows in a woman’s abd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s (Fallopian Tubes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wo tubular structures leading from the ovaries to the ute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i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gans holding a woman’s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msnbcmedia.msn.com/i/msnbc/Components/Interactives/Health/WomensHealth/zFlashAssets/menstrual_cycle_dw2%5B1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related concer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amp;C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ion and curettage, a common minor operation o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metri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ragments of the endometrium in abnormal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aracterized by the massive release of muscle tension which has built up during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smenorrh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inful mentruation (primary or 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sterectom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urgical removal of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al Lig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peration for sterilization of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nytimes.com/imagepages/2007/08/01/health/adam/17136Tuballiga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menstrual syndrome…2 weeks before your period…(collection of physical, psychological and emotional symptoms associated with the menstrual cycle. (80% of women have some symp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strual Cyc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process of passing the blood and tissue lining of the uterus from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xic Shock Syndro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used by bacteria (staphylococcus aureus) that live in the vagina, which then multiply and causes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p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remaining ova no longer ripen or devel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o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hormone responsible for secondary sex characteristics and for the sex drive in females.  The “egg producing”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ester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uilds up the lining of the uterus to prepare it for the fertilized ovum.; the “egg-setting”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u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ime when the egg is released from the o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ertilization (conception):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a sperm entering an ovum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657600"/>
            <a:ext cx="3751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Miracle of Lif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05520" y="2535120"/>
            <a:ext cx="40384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e Visible Embryo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glencoe.com/sec/science/cgi-bin/splitwindow.cgi?top=http://www.glencoe.com/sec/science/top2.html&amp;link=http://www.visembryo.com/baby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d You Know?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Oysters produce an est. 115 million eggs of which only each spaw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frogs produce hundreds of thousands of eggs for fer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females have 400 000 egg cells, of which only 400 mature throughout the reproductive years (12 to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males, beginning at approx age 13 up until their 80’s and 90’s can produce as many as one billion sex cells every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number of offspring ever born to a woman was 57~Ouc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ass Review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quia.com/quiz/887927.html?AP_rand=17283106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 Functions of the Reproductive System: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egg and sper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ransport and sustain the egg and sper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urture the developing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rgans of the Reproductive System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reproductive org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sist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es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se organs are responsib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the egg and sperm cells, (gametes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uration of the reproductiv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ment of sexu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ave important rol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ng the normal physiology of the reproductiv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rgans of the Reproductive System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gans, ducts, and gl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reproductive system are consid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, or access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productive organs. These structur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ain the gam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ture the developing offsp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milarities / Differences of Male &amp; Female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very similar structures of sex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enita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 the hormones of the other se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of one sex are often used to treat illness in the other se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exes have reproductive organs call GENITALS or GENITALIA, designed for the purpose of intercourse and conce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female has organs for pregnancy and childbirth….although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youtube.com/watch?v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=6XyJlWQnMTU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le &amp; Female Reproductive Systems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le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produce male sex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male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roduce the female sex cell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sion of a male and a female sex cell, in a proces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ygote div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imes to form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n turn continues to grow in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he Male Reproductive System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360" y="5589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&amp; 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33:28Z</dcterms:created>
  <dc:creator>lisa.holyokewalsh</dc:creator>
  <dc:description/>
  <dc:language>en-US</dc:language>
  <cp:lastModifiedBy>lisa.holyokewalsh</cp:lastModifiedBy>
  <dcterms:modified xsi:type="dcterms:W3CDTF">2008-05-24T20:58:33Z</dcterms:modified>
  <cp:revision>10</cp:revision>
  <dc:subject/>
  <dc:title>The Reproductive System</dc:title>
</cp:coreProperties>
</file>